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AC0-DD89-4AEB-B458-1F6B62925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5C7-5F86-45F0-96A9-3624CE27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905-2310-48E9-8976-A428C5BE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CC4-329C-461E-892A-F0F1EED1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84D1-172D-4C08-A241-9C043996C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7D3-16E3-4CAD-A407-817BDC3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3DF-C494-436E-A9BE-ECBE19B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597E-9692-4D9A-99B9-EEB581E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C4A-1A5C-4FD1-AE7E-A048AA6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F306-2FB0-4B6B-8507-B9222BEB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87B5-10B6-458F-B1F5-B99C4BC3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DB9F-D1CA-4672-B9A8-6F5410A5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91A3-644D-43E1-B8A3-C3141909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240A-3244-4F56-B434-5E6FDBA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9F11-21B9-45E6-95D6-38006BA4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EB1D-5A9B-495A-847F-B8345847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5736-A2A0-411A-B459-8207877A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902-552F-44CF-B165-AC5C3A8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962-AA7A-4E05-ADBA-F6CD747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9B5-1639-40A4-86DB-A0EEA533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175-0399-47FF-B077-4F5CF4B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D45D-D332-4EAC-84D6-E15D5B8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8D6E-F966-4FB6-94C4-EDACEE7D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913-D929-44BF-92AE-ACE60989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A8AA-422C-436F-A78F-ED533F60D1A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7ED-221D-4657-8EA9-B1CB9583A64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acificsciencecenter.org/Education/Resourc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948880" cy="251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5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acific Science Center inspires a lifelong interest in science, math and technology by engaging diverse communities through interactive and innovative exhibits and program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7892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acific Science Center has exhibits and activities for students of all ages (k-12). Whether your field trip is an introduction to concepts, or a culmination of a curriculum unit, PSC’s exhibits and school programs include inquiry based learning opportunities that engage students and encourage them to discover and explore the world around them!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Pacific Science Center offers a special program providing FREE bus transportation for school and community groups. To register your school  or community group, call (206) 443-2925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19840" cy="126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pacificsciencecenter.org/Education/Resourc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or educational resources for teachers, including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formational articl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cience activit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-visit workshee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hibit gui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mp-In is a private, after hours experience where you can explore everything Pacific Science Center has to offer, including a hands-on science workshop, live stage show and planetarium show presented by Pacific Science Center's enthusiastic, knowledgeable and entertaining education sta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st: $50 per per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mes: 5:30pm to 9:30p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o: Families, schools, youth grou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gister online or contact: (206) 443-29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22:26Z</dcterms:created>
  <dc:creator>Information Technology</dc:creator>
  <dc:description/>
  <dc:language>en-US</dc:language>
  <cp:lastModifiedBy>Information Technology</cp:lastModifiedBy>
  <dcterms:modified xsi:type="dcterms:W3CDTF">2012-03-05T04:53:15Z</dcterms:modified>
  <cp:revision>4</cp:revision>
  <dc:subject/>
  <dc:title>Pacific Science center By: Andrew (AK47) Kreiter and Alex (AC-Slater) Craighead</dc:title>
</cp:coreProperties>
</file>